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A74C9-6D68-4D48-AB0C-4FBD766F7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B98A6-48A1-4FF2-BBFA-BC95BCAAF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6B44D-5492-4901-AC66-8F0D09230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93E02-9FA4-4AE6-AC76-726F2FB22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7B217-386C-444F-AB48-2B76F2495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A9BA1-BE73-458F-BEDD-A43DB4FD0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02438-DCEF-4BB8-815A-1DD86E044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E1810-26C9-45DD-AE15-3D00CB072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B8939-2161-407D-A0D0-F246A6652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ABCFB-DE59-4708-8B7F-3C8DB8151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89495-FE4A-4448-9789-1836F4BB9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53E3D-DF00-4824-B890-597BB8742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49E2C-F8E6-4A38-A028-F8C5A5AE28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hyperlink" Target="file:///G:/Teacher%20Resources/Downloaded%20Videos/Enzyme%20Action.avi" TargetMode="External"/><Relationship Id="rId3" Type="http://schemas.openxmlformats.org/officeDocument/2006/relationships/hyperlink" Target="file:///G:/Teacher%20Resources/Downloaded%20Videos/Enzyme%20Action.avi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hemical Reactions and Enzy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xtbook: Chapter 2, Section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371600" y="1600200"/>
            <a:ext cx="6172200" cy="32767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988920" y="685800"/>
            <a:ext cx="679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eaking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1 Substra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to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2 Produ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041560" y="5294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047960" y="5257800"/>
            <a:ext cx="650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G:\Teacher Resources\Downloaded Videos\Enzyme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Action.av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600200" y="1752480"/>
            <a:ext cx="6172200" cy="381024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1370520" y="685800"/>
            <a:ext cx="647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ining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2 Substrat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to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1 Produ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zymes can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brea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joi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strates into product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zymes work best at a certain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p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temper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les of Enzym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) regulating chemical pathw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) making mater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) releasing ener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) transferring inf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6781680" y="2438280"/>
            <a:ext cx="201312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y do we study chemical reactions in biolog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82296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mistry isn’t just what life is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made of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chemistry is also what life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do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ything that happens in an organism is based on chemical reactions (growth, response to environment, etc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emical Re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rocess that changes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reacta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to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produc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ow Reactions vs. Fast Re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10" descr="p49"/>
          <p:cNvPicPr/>
          <p:nvPr/>
        </p:nvPicPr>
        <p:blipFill>
          <a:blip r:embed="rId1"/>
          <a:stretch/>
        </p:blipFill>
        <p:spPr>
          <a:xfrm>
            <a:off x="1371600" y="3429000"/>
            <a:ext cx="2346480" cy="30034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" descr=""/>
          <p:cNvPicPr/>
          <p:nvPr/>
        </p:nvPicPr>
        <p:blipFill>
          <a:blip r:embed="rId2"/>
          <a:stretch/>
        </p:blipFill>
        <p:spPr>
          <a:xfrm>
            <a:off x="4876920" y="3505320"/>
            <a:ext cx="2763720" cy="276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5335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mical reactions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break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onds in reactants and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form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onds in produ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"/>
          <p:cNvPicPr/>
          <p:nvPr/>
        </p:nvPicPr>
        <p:blipFill>
          <a:blip r:embed="rId1"/>
          <a:srcRect l="0" t="0" r="0" b="21894"/>
          <a:stretch/>
        </p:blipFill>
        <p:spPr>
          <a:xfrm>
            <a:off x="1219320" y="1905120"/>
            <a:ext cx="6750000" cy="35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ergy Chan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reactions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releas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ergy and some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absorb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Activation Energ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the energy required to start a re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0" descr="graph"/>
          <p:cNvPicPr/>
          <p:nvPr/>
        </p:nvPicPr>
        <p:blipFill>
          <a:blip r:embed="rId1"/>
          <a:stretch/>
        </p:blipFill>
        <p:spPr>
          <a:xfrm>
            <a:off x="1523880" y="3886200"/>
            <a:ext cx="609624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eeding up Re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low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ctions or reactions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with high activation energi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need a catalys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Catalys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any substance that lowers the activation energy of a reaction to “speed it up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Enzyme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 catalysts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at are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protein molecu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0" descr="graph1"/>
          <p:cNvPicPr/>
          <p:nvPr/>
        </p:nvPicPr>
        <p:blipFill>
          <a:blip r:embed="rId1"/>
          <a:stretch/>
        </p:blipFill>
        <p:spPr>
          <a:xfrm>
            <a:off x="1523880" y="762120"/>
            <a:ext cx="6324840" cy="54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nzym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-360" y="1066320"/>
            <a:ext cx="57150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zymes provide a site where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reactant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be brought together to reac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an enzyme-catalyzed reaction, the reactants are called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ubstrat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enzyme has a specific shape and a specific portion called the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active si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where substrates bin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562720" y="1981080"/>
            <a:ext cx="3429000" cy="24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533520" y="15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ubstrates must fit exactly into the active site.  This is called the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lock and ke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ode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ce the reaction is complete, the enzyme releases the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product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 the re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zymes can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joi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break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strates into product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6" descr=""/>
          <p:cNvPicPr/>
          <p:nvPr/>
        </p:nvPicPr>
        <p:blipFill>
          <a:blip r:embed="rId1"/>
          <a:stretch/>
        </p:blipFill>
        <p:spPr>
          <a:xfrm>
            <a:off x="1143000" y="4038480"/>
            <a:ext cx="2209680" cy="22100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5" descr=""/>
          <p:cNvPicPr/>
          <p:nvPr/>
        </p:nvPicPr>
        <p:blipFill>
          <a:blip r:embed="rId2"/>
          <a:stretch/>
        </p:blipFill>
        <p:spPr>
          <a:xfrm>
            <a:off x="4114800" y="3581280"/>
            <a:ext cx="4038480" cy="30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6T19:15:01Z</dcterms:created>
  <dc:creator>Kate</dc:creator>
  <dc:description/>
  <dc:language>en-US</dc:language>
  <cp:lastModifiedBy>Kate</cp:lastModifiedBy>
  <dcterms:modified xsi:type="dcterms:W3CDTF">2011-10-16T19:52:10Z</dcterms:modified>
  <cp:revision>5</cp:revision>
  <dc:subject/>
  <dc:title>Chemical Reactions and Enzymes</dc:title>
</cp:coreProperties>
</file>